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077-D813-4786-A34B-917ED886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1B9-D848-40BE-89D8-54BC7083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152-282D-4CED-84C5-87C0AE3D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4FF-A3E9-42CF-8162-D1A11351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FA9-02A2-46A6-B8B9-889C1B5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2D0-ABCE-4502-8FC3-62C763B8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A41-8010-4BBB-BCA1-96CE81E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901-2189-4177-8BCB-0A4C80A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6B8-741D-4BB2-BF31-E2E9332B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B35-D19B-4C77-9C85-D06D25B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157-A299-45E3-99F9-A4A06254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CEF-AC3D-453A-8E50-57735AC4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0D50-F0D4-4C8D-91D8-24311729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6B90-8D68-47CB-86BC-CEA7903B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1111-43A3-4E09-86A8-A1CBC60A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8284-C8A1-47FA-8E49-5F95166A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A6AD-8B53-473D-ACFE-B352F697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63BB-371C-42EB-8281-5BB6FD73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A185-8D63-4B15-9D26-1BD69C8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8A64-88E7-4231-A96F-FE21ED0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532A-7CB7-418B-AF3D-51E95C7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E9A-0AB7-4BF0-A5C6-47C55E33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53C8-20BB-4175-A4B4-9416082B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70A3-9B31-41A3-812C-B02A1C0C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8941-0296-4420-8B04-EC3097B1E88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4207-3C11-41B8-A680-CAABE2D7462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3286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me 2: Timelines for revision and submission of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280" y="907920"/>
          <a:ext cx="8893440" cy="5722920"/>
        </p:xfrm>
        <a:graphic>
          <a:graphicData uri="http://schemas.openxmlformats.org/drawingml/2006/table">
            <a:tbl>
              <a:tblPr/>
              <a:tblGrid>
                <a:gridCol w="3170520"/>
                <a:gridCol w="1353960"/>
                <a:gridCol w="1373400"/>
                <a:gridCol w="1498320"/>
                <a:gridCol w="1497240"/>
              </a:tblGrid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script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ion of r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mission of manu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rget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alling, plant density and N fertilizer rate effect on soil, weed and grain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estock corralling density effect on soil quality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de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growth type effects on productivity  and profitability of hybri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d rice variety response to nitrogen rate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. J of Agric. &amp; Bi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TIT2</cp:lastModifiedBy>
  <cp:lastPrinted>2015-09-01T11:16:39Z</cp:lastPrinted>
  <dcterms:modified xsi:type="dcterms:W3CDTF">2016-12-13T15:46:07Z</dcterms:modified>
  <cp:revision>998</cp:revision>
  <dc:subject/>
  <dc:title>Diapositiva 1</dc:title>
</cp:coreProperties>
</file>